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2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6.jpeg" ContentType="image/jpeg"/>
  <Override PartName="/ppt/media/image8.wmf" ContentType="image/x-wmf"/>
  <Override PartName="/ppt/media/image37.jpeg" ContentType="image/jpeg"/>
  <Override PartName="/ppt/media/image38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39.png" ContentType="image/png"/>
  <Override PartName="/ppt/media/image30.jpeg" ContentType="image/jpeg"/>
  <Override PartName="/ppt/media/image35.jpeg" ContentType="image/jpeg"/>
  <Override PartName="/ppt/media/image14.png" ContentType="image/png"/>
  <Override PartName="/ppt/media/image10.jpeg" ContentType="image/jpeg"/>
  <Override PartName="/ppt/media/image7.png" ContentType="image/png"/>
  <Override PartName="/ppt/media/image12.png" ContentType="image/png"/>
  <Override PartName="/ppt/media/image36.png" ContentType="image/png"/>
  <Override PartName="/ppt/media/image4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AAB-C07D-48BA-BB15-42E4FC9C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C16-E091-43B5-9A97-4E3F6A33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6F5-8494-4652-864E-7E0EBA9B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562-7242-41AC-B6FB-443F21F2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AA1D-2487-4AFC-A8FA-E606BB89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F8BA-805F-4DD8-A573-C3A8DBFE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D331-FE6D-4BEF-8144-E4A57E00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6076-7C29-4069-8924-A271F81F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F45F-3341-4893-B972-6E6B7317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E8F7-614A-4D72-8CD8-A06DA004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E70C-EA85-43A4-9E63-DCEDE687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424-43B8-41A8-AF8C-A198F54A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A06E-30ED-4A92-93A2-7667DEEC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933F-6F4D-456A-8738-57C8BBC7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AA9A-5082-435F-8360-62FA6ECA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5E45-7C6D-4563-AFAA-B85862D7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00B7-FDD2-4352-8D9E-46D3DF4D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41B1F-C589-4D58-9182-9396BD83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78A0D-33F9-4810-9E0B-0C69A066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CB1D0-9A89-41DC-BE91-CFB8E115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7F3D-AB7B-4BBE-9644-B187F71F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267E-071B-4F46-89BD-3F9CE6EE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132-B332-4BCB-A45A-9CE6F506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6166C-BE83-4DB9-A70E-96E46869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740F3-C153-4881-9A00-E5B7CCF3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0D9E-CD32-41F1-89F5-8FDAEA67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A3FFC-B233-4506-86F3-BBB13385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E81B5-949B-457C-8E4A-8D200F0A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C476-5A7D-4C3C-BFE2-330FC6C5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4A6FA-112A-4DCD-A066-65F66600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2B1A2-ADC0-4CFB-A001-DD8DF26E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92A9A-6166-4F4F-ABA2-BDB9347E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A2523-BD3B-4324-948A-3500A935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351-F00B-4A0B-981E-D4D5837E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BF000-4315-42A1-9A04-1836943E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55D47-2372-4146-98FC-1161FE35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29759-05EE-42D2-B365-E826A9FE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C346D-9E44-4175-80E5-DE7185FA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6B3AD-C55F-4C38-A3F5-EE96EB0E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ACE7A-99CD-42D9-9741-C8218D14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7EB37-1C08-44AF-B594-82A08241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97408-2BD6-47BE-A7A3-CB6C3356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836E2-6D84-43D6-88A2-460F5D14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CEFB7-C3BE-4C3D-9BE3-AF2726E4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CC12-6ABD-4485-9C29-D3843B1E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ACE48-06FE-44E2-98E7-0C434BE7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0B858-6008-4B32-BA1D-24930604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07C5E-50F2-471C-9FCC-31204871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22D47-9C72-4D78-B2B7-8ABCD269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71338-5CB4-4A9B-B3EC-418E0987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A9224-F658-4266-A2F7-2B22D82C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F4902-E94D-44C4-ADA0-458C6397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C4B26-620C-4A04-A173-4B106D43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256CE-97F5-4ED8-BFEA-395ABA63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9C0E1-4A4C-4B00-B742-F9D87E65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112-14EA-4E54-B125-661D629B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2C0A7-908A-41A8-9EEC-FE92A1E3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6F650-377F-4879-A2CC-84BB4E74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D9472-F6FD-4CC3-8435-FFC87EE1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516D1-FBCC-4546-8D45-8BFB9FE4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94D74-F6D8-4B6C-A352-D3D0C2FF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FC134-BD5A-41E5-B78C-0ABA5D18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BADC0-8B05-4150-A2F0-3BBFAA03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FB4DB-2CAD-458D-B091-F728EC6E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B0392-404B-458C-A07A-1A76590B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24A64-ED5D-4E2C-B97E-63C229C5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7C8-6C59-4D8E-AE87-892CF9B7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46E78-DD9F-4B49-B5AD-66481F89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34D20-DD7D-48FA-9AAE-78709676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91E99-5859-465C-9852-AEEB53DF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60CA0-E84C-45D1-B66A-787AEE83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1DF41-92C8-43A7-9A70-336BD621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74449-F567-4FC9-989B-C22ACA4F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DD71C-CE6D-4151-9B78-EC461A00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51FD4-196E-4BDD-A249-41390D79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55DF6-77E9-4BA9-861E-8A674BFC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0C5BF-E965-4660-B004-9CD9A9A3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742-9EE1-49E4-B1E5-DA7EC1C1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43DBF-512E-46EF-A4CE-E8DFFBAF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9C797-31B5-4D1A-B92C-8203C1B8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92B2F-575D-4C98-958B-7D2DA320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01A9A-BE5D-4C1C-874F-4C6D7E58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29A1B-95DA-4462-94FE-6277D6C8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243DA-F592-4454-90C7-E58AB9E6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3329C-E694-4C5F-B80C-BD1BADBF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2D0D3-CA94-421C-905D-5F630845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8FB19-837B-4849-8F1D-F6011FB4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A2A2A-2651-4381-87C5-A5BBB6B9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F75-C475-4555-A0D6-B400DE5C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8F2CB-C7EC-4FD7-B4EC-8FFCB030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18370-9DA1-4106-812E-4932338A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022C5-5980-4CF5-8A02-49291B23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92FAD-D0DD-420E-A27E-EB030770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46431-A55C-4109-B228-8C8CE33B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313A2-303C-4C94-8EB2-711D0598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AC3D5-9800-4C10-B559-B783EEF2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CA01-251F-4628-8F91-843071D511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B33F-3F92-4DC7-9A5C-056C3B4881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BD8A-B364-4E30-BF52-959EE76088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47F2-D26E-435E-A6C0-8F6FABC3AC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A970-E647-495D-AB19-769D73A5FA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BD1E-855B-4FAD-B8E3-2D1510DF2B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EC53-D9A7-442D-8F87-8CCC84AD0D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6028-6B92-427A-9BEB-E3DDCF2F1C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hyperlink" Target="http://www.computerdesktopwallpaper.net/wp-content/uploads/2011/01/Desert-Amazing-Wallpaper.jp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hyperlink" Target="http://www.flowersplane.com/wp-content/uploads/2011/08/Hawaii-Volcano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1" descr=""/>
          <p:cNvPicPr/>
          <p:nvPr/>
        </p:nvPicPr>
        <p:blipFill>
          <a:blip r:embed="rId1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C:\Documents and Settings\sramsey\Local Settings\Temporary Internet Files\Content.IE5\726PDIT4\MC900441846[1].wmf"/>
          <p:cNvPicPr/>
          <p:nvPr/>
        </p:nvPicPr>
        <p:blipFill>
          <a:blip r:embed="rId2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3" descr=""/>
          <p:cNvPicPr/>
          <p:nvPr/>
        </p:nvPicPr>
        <p:blipFill>
          <a:blip r:embed="rId2"/>
          <a:stretch/>
        </p:blipFill>
        <p:spPr>
          <a:xfrm>
            <a:off x="298440" y="249120"/>
            <a:ext cx="8637480" cy="1586160"/>
          </a:xfrm>
          <a:prstGeom prst="rect">
            <a:avLst/>
          </a:prstGeom>
          <a:ln w="0">
            <a:noFill/>
          </a:ln>
        </p:spPr>
      </p:pic>
      <p:sp>
        <p:nvSpPr>
          <p:cNvPr id="396" name="TextBox 6"/>
          <p:cNvSpPr/>
          <p:nvPr/>
        </p:nvSpPr>
        <p:spPr>
          <a:xfrm>
            <a:off x="6781680" y="35053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oa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6" descr="http://dickiehaha.files.wordpress.com/2011/05/desertoasis.jpg"/>
          <p:cNvPicPr/>
          <p:nvPr/>
        </p:nvPicPr>
        <p:blipFill>
          <a:blip r:embed="rId3"/>
          <a:stretch/>
        </p:blipFill>
        <p:spPr>
          <a:xfrm>
            <a:off x="0" y="2133720"/>
            <a:ext cx="6858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2057400" y="2285640"/>
            <a:ext cx="2286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781320" y="3809880"/>
            <a:ext cx="2590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Sans Unicode"/>
              </a:rPr>
              <a:t>Mountain range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467920" cy="15858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C:\Documents and Settings\islpt142\Local Settings\Temporary Internet Files\Content.IE5\I442ZXP3\MP900447450[1].jpg"/>
          <p:cNvPicPr/>
          <p:nvPr/>
        </p:nvPicPr>
        <p:blipFill>
          <a:blip r:embed="rId2"/>
          <a:stretch/>
        </p:blipFill>
        <p:spPr>
          <a:xfrm>
            <a:off x="0" y="129528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Lucida Sans Unicode"/>
              </a:rPr>
              <a:t>Ask a HIGHER level question combining two or more terms.</a:t>
            </a:r>
            <a:endParaRPr b="0" lang="en-US" sz="1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0" lang="en-US" sz="1300" spc="-1" strike="noStrike">
                <a:solidFill>
                  <a:srgbClr val="ffffff"/>
                </a:solidFill>
                <a:latin typeface="Lucida Sans Unicode"/>
              </a:rPr>
              <a:t>Example:</a:t>
            </a:r>
            <a:endParaRPr b="0" lang="en-US" sz="1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Lucida Sans Unicode"/>
              </a:rPr>
              <a:t>How is a strait similar to an isthmus?  Type the answer at the bottom where it says “Click to add notes.”</a:t>
            </a:r>
            <a:endParaRPr b="0" lang="en-US" sz="1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20840" y="-109440"/>
            <a:ext cx="8046720" cy="877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www.worldatlas.com/aatlas/infopage/hormuz.gif"/>
          <p:cNvPicPr/>
          <p:nvPr/>
        </p:nvPicPr>
        <p:blipFill>
          <a:blip r:embed="rId2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http://www.nasa.gov/images/content/150519main_image_feature_595_ys_4.jpg"/>
          <p:cNvPicPr/>
          <p:nvPr/>
        </p:nvPicPr>
        <p:blipFill>
          <a:blip r:embed="rId3"/>
          <a:stretch/>
        </p:blipFill>
        <p:spPr>
          <a:xfrm>
            <a:off x="49528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406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7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08" name="TextBox 10"/>
          <p:cNvSpPr/>
          <p:nvPr/>
        </p:nvSpPr>
        <p:spPr>
          <a:xfrm>
            <a:off x="3581280" y="34290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1e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20840" y="-109440"/>
            <a:ext cx="8046720" cy="877680"/>
          </a:xfrm>
          <a:prstGeom prst="rect">
            <a:avLst/>
          </a:prstGeom>
          <a:ln w="0">
            <a:noFill/>
          </a:ln>
        </p:spPr>
      </p:pic>
      <p:sp>
        <p:nvSpPr>
          <p:cNvPr id="412" name="TextBox 3"/>
          <p:cNvSpPr/>
          <p:nvPr/>
        </p:nvSpPr>
        <p:spPr>
          <a:xfrm>
            <a:off x="304920" y="18288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a  oasis and a desert deferen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6" descr="http://1000thingstobegratefulfor.files.wordpress.com/2011/07/wadi-in-desert-1.jpg"/>
          <p:cNvPicPr/>
          <p:nvPr/>
        </p:nvPicPr>
        <p:blipFill>
          <a:blip r:embed="rId2"/>
          <a:stretch/>
        </p:blipFill>
        <p:spPr>
          <a:xfrm>
            <a:off x="0" y="3962520"/>
            <a:ext cx="3962520" cy="28954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Desert Amazing Wallpaper 300x168 Desert Amazing Wallpap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3962520"/>
            <a:ext cx="3657600" cy="2895480"/>
          </a:xfrm>
          <a:prstGeom prst="rect">
            <a:avLst/>
          </a:prstGeom>
          <a:ln w="0">
            <a:noFill/>
          </a:ln>
        </p:spPr>
      </p:pic>
      <p:sp>
        <p:nvSpPr>
          <p:cNvPr id="415" name="Right Arrow 7"/>
          <p:cNvSpPr/>
          <p:nvPr/>
        </p:nvSpPr>
        <p:spPr>
          <a:xfrm rot="2553000">
            <a:off x="4468320" y="3889440"/>
            <a:ext cx="2792520" cy="557280"/>
          </a:xfrm>
          <a:prstGeom prst="rightArrow">
            <a:avLst>
              <a:gd name="adj1" fmla="val 33370"/>
              <a:gd name="adj2" fmla="val 4999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eft Arrow 16"/>
          <p:cNvSpPr/>
          <p:nvPr/>
        </p:nvSpPr>
        <p:spPr>
          <a:xfrm rot="19393800">
            <a:off x="2147400" y="4000320"/>
            <a:ext cx="3081600" cy="45720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1143000" y="617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Box 18"/>
          <p:cNvSpPr/>
          <p:nvPr/>
        </p:nvSpPr>
        <p:spPr>
          <a:xfrm>
            <a:off x="685800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20840" y="-109440"/>
            <a:ext cx="8046720" cy="877680"/>
          </a:xfrm>
          <a:prstGeom prst="rect">
            <a:avLst/>
          </a:prstGeom>
          <a:ln w="0">
            <a:noFill/>
          </a:ln>
        </p:spPr>
      </p:pic>
      <p:sp>
        <p:nvSpPr>
          <p:cNvPr id="421" name="TextBox 3"/>
          <p:cNvSpPr/>
          <p:nvPr/>
        </p:nvSpPr>
        <p:spPr>
          <a:xfrm>
            <a:off x="380880" y="19810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deferent's between an ice burg and a glac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5" descr="http://www.alaska-in-pictures.com/data/media/19/tracy-arm-iceberg_1377.jpg"/>
          <p:cNvPicPr/>
          <p:nvPr/>
        </p:nvPicPr>
        <p:blipFill>
          <a:blip r:embed="rId2"/>
          <a:stretch/>
        </p:blipFill>
        <p:spPr>
          <a:xfrm>
            <a:off x="0" y="3429000"/>
            <a:ext cx="4457880" cy="3429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http://westerlund10.wikis.birmingham.k12.mi.us/file/view/himilayan_glacier_2.jpg/191926616/himilayan_glacier_2.jpg"/>
          <p:cNvPicPr/>
          <p:nvPr/>
        </p:nvPicPr>
        <p:blipFill>
          <a:blip r:embed="rId3"/>
          <a:stretch/>
        </p:blipFill>
        <p:spPr>
          <a:xfrm>
            <a:off x="5791320" y="34290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424" name="Right Arrow 7"/>
          <p:cNvSpPr/>
          <p:nvPr/>
        </p:nvSpPr>
        <p:spPr>
          <a:xfrm>
            <a:off x="4952880" y="5410080"/>
            <a:ext cx="1295640" cy="304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eft Arrow 8"/>
          <p:cNvSpPr/>
          <p:nvPr/>
        </p:nvSpPr>
        <p:spPr>
          <a:xfrm>
            <a:off x="3886200" y="4419720"/>
            <a:ext cx="1523880" cy="304560"/>
          </a:xfrm>
          <a:prstGeom prst="leftArrow">
            <a:avLst>
              <a:gd name="adj1" fmla="val 50000"/>
              <a:gd name="adj2" fmla="val 5003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Box 9"/>
          <p:cNvSpPr/>
          <p:nvPr/>
        </p:nvSpPr>
        <p:spPr>
          <a:xfrm>
            <a:off x="1600200" y="6095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Ice 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Box 10"/>
          <p:cNvSpPr/>
          <p:nvPr/>
        </p:nvSpPr>
        <p:spPr>
          <a:xfrm>
            <a:off x="6781680" y="6095880"/>
            <a:ext cx="13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Glac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3" descr=""/>
          <p:cNvPicPr/>
          <p:nvPr/>
        </p:nvPicPr>
        <p:blipFill>
          <a:blip r:embed="rId1"/>
          <a:stretch/>
        </p:blipFill>
        <p:spPr>
          <a:xfrm>
            <a:off x="139680" y="-92160"/>
            <a:ext cx="8864640" cy="1725840"/>
          </a:xfrm>
          <a:prstGeom prst="rect">
            <a:avLst/>
          </a:prstGeom>
          <a:ln w="0">
            <a:noFill/>
          </a:ln>
        </p:spPr>
      </p:pic>
      <p:sp>
        <p:nvSpPr>
          <p:cNvPr id="373" name="TextBox 6"/>
          <p:cNvSpPr/>
          <p:nvPr/>
        </p:nvSpPr>
        <p:spPr>
          <a:xfrm>
            <a:off x="7010280" y="3276720"/>
            <a:ext cx="213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0d0d"/>
                </a:solidFill>
                <a:latin typeface="Blackadder ITC"/>
              </a:rPr>
              <a:t>pla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icture 6" descr="http://ed101.bu.edu/StudentDoc/current/ED101fa10/hillaryw/Images/plains_landscape.jpg"/>
          <p:cNvPicPr/>
          <p:nvPr/>
        </p:nvPicPr>
        <p:blipFill>
          <a:blip r:embed="rId2"/>
          <a:stretch/>
        </p:blipFill>
        <p:spPr>
          <a:xfrm>
            <a:off x="304920" y="1981080"/>
            <a:ext cx="6607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3" descr=""/>
          <p:cNvPicPr/>
          <p:nvPr/>
        </p:nvPicPr>
        <p:blipFill>
          <a:blip r:embed="rId2"/>
          <a:stretch/>
        </p:blipFill>
        <p:spPr>
          <a:xfrm>
            <a:off x="92160" y="-208080"/>
            <a:ext cx="8691480" cy="20433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6781680" y="35053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Times New Roman"/>
              </a:rPr>
              <a:t>Ca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6" descr="http://t1.gstatic.com/images?q=tbn:ANd9GcR5tyiKwiYwJUElhvvwukN8AhXWkbqgnRqiJYa3Ljd_txYwPS0fJHn4BPVN"/>
          <p:cNvPicPr/>
          <p:nvPr/>
        </p:nvPicPr>
        <p:blipFill>
          <a:blip r:embed="rId3"/>
          <a:stretch/>
        </p:blipFill>
        <p:spPr>
          <a:xfrm>
            <a:off x="0" y="1905120"/>
            <a:ext cx="6788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3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467920" cy="15858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6"/>
          <p:cNvSpPr/>
          <p:nvPr/>
        </p:nvSpPr>
        <p:spPr>
          <a:xfrm>
            <a:off x="678168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6" descr="http://www.ysi.com/media/apps/thumb/Source-Water-App.jpg"/>
          <p:cNvPicPr/>
          <p:nvPr/>
        </p:nvPicPr>
        <p:blipFill>
          <a:blip r:embed="rId2"/>
          <a:stretch/>
        </p:blipFill>
        <p:spPr>
          <a:xfrm>
            <a:off x="0" y="177156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3" descr=""/>
          <p:cNvPicPr/>
          <p:nvPr/>
        </p:nvPicPr>
        <p:blipFill>
          <a:blip r:embed="rId2"/>
          <a:stretch/>
        </p:blipFill>
        <p:spPr>
          <a:xfrm>
            <a:off x="225360" y="-103320"/>
            <a:ext cx="8650440" cy="19083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6"/>
          <p:cNvSpPr/>
          <p:nvPr/>
        </p:nvSpPr>
        <p:spPr>
          <a:xfrm>
            <a:off x="6781680" y="35053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4747"/>
                </a:solidFill>
                <a:latin typeface="Times New Roman"/>
              </a:rPr>
              <a:t>vol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6" descr="Hawaii Volcan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173320"/>
            <a:ext cx="66294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3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467920" cy="1908360"/>
          </a:xfrm>
          <a:prstGeom prst="rect">
            <a:avLst/>
          </a:prstGeom>
          <a:ln w="0">
            <a:noFill/>
          </a:ln>
        </p:spPr>
      </p:pic>
      <p:sp>
        <p:nvSpPr>
          <p:cNvPr id="385" name="TextBox 6"/>
          <p:cNvSpPr/>
          <p:nvPr/>
        </p:nvSpPr>
        <p:spPr>
          <a:xfrm>
            <a:off x="7162920" y="35053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plat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6" descr="http://media-3.web.britannica.com/eb-media/90/118890-004-8C5E9046.jpg"/>
          <p:cNvPicPr/>
          <p:nvPr/>
        </p:nvPicPr>
        <p:blipFill>
          <a:blip r:embed="rId2"/>
          <a:stretch/>
        </p:blipFill>
        <p:spPr>
          <a:xfrm>
            <a:off x="0" y="2133720"/>
            <a:ext cx="714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3" descr=""/>
          <p:cNvPicPr/>
          <p:nvPr/>
        </p:nvPicPr>
        <p:blipFill>
          <a:blip r:embed="rId2"/>
          <a:stretch/>
        </p:blipFill>
        <p:spPr>
          <a:xfrm>
            <a:off x="225360" y="-158760"/>
            <a:ext cx="8467920" cy="2468520"/>
          </a:xfrm>
          <a:prstGeom prst="rect">
            <a:avLst/>
          </a:prstGeom>
          <a:ln w="0">
            <a:noFill/>
          </a:ln>
        </p:spPr>
      </p:pic>
      <p:sp>
        <p:nvSpPr>
          <p:cNvPr id="388" name="TextBox 6"/>
          <p:cNvSpPr/>
          <p:nvPr/>
        </p:nvSpPr>
        <p:spPr>
          <a:xfrm>
            <a:off x="7010280" y="574992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delt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3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6"/>
          <p:cNvSpPr/>
          <p:nvPr/>
        </p:nvSpPr>
        <p:spPr>
          <a:xfrm>
            <a:off x="7315200" y="34290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imes New Roman"/>
              </a:rPr>
              <a:t>glac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6" descr="Alaska Portage Glacier"/>
          <p:cNvPicPr/>
          <p:nvPr/>
        </p:nvPicPr>
        <p:blipFill>
          <a:blip r:embed="rId3"/>
          <a:stretch/>
        </p:blipFill>
        <p:spPr>
          <a:xfrm>
            <a:off x="0" y="1432080"/>
            <a:ext cx="72388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3" descr=""/>
          <p:cNvPicPr/>
          <p:nvPr/>
        </p:nvPicPr>
        <p:blipFill>
          <a:blip r:embed="rId2"/>
          <a:stretch/>
        </p:blipFill>
        <p:spPr>
          <a:xfrm>
            <a:off x="225360" y="-158760"/>
            <a:ext cx="8467920" cy="158580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7391520" y="3733920"/>
            <a:ext cx="2133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imes New Roman"/>
              </a:rPr>
              <a:t>Des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6" descr="http://www.blueplanetbiomes.org/images/dry_desert.jpg"/>
          <p:cNvPicPr/>
          <p:nvPr/>
        </p:nvPicPr>
        <p:blipFill>
          <a:blip r:embed="rId3"/>
          <a:stretch/>
        </p:blipFill>
        <p:spPr>
          <a:xfrm>
            <a:off x="0" y="1930320"/>
            <a:ext cx="739152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20:32:18Z</dcterms:modified>
  <cp:revision>31</cp:revision>
  <dc:subject/>
  <dc:title>PowerPoint Presentation</dc:title>
</cp:coreProperties>
</file>